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8B6-E818-4CD1-9418-400421B9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407-E804-43FA-AA5A-78EAC4B8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C7B-AB2F-4062-8251-38CB5933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3F1-549F-47B1-AEFD-482C9C6C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466-FD8A-4600-B87A-90688AD8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C1E-9B7F-4648-BF62-CBF79140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162-9773-40E1-B7EE-88B79092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49E-1F0F-4A13-9921-2BFE7F80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AF1-8943-4338-89F8-D234BE37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6E4-9662-4392-BA9E-0C514E7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E46-A1FA-4E24-B8F6-B6249F5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DBC-C58D-4D3B-8CBC-28D8613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A3D1-D926-42DF-8091-C7838B539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66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col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2997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5445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4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4221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2924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34136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3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n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4869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m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1413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13372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 l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620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mar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989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 l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551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 el ja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9079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t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371628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609300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321300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33577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u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2:23:37Z</dcterms:created>
  <dc:creator>Katy Oliver</dc:creator>
  <dc:description/>
  <dc:language>en-US</dc:language>
  <cp:lastModifiedBy>Katy Oliver</cp:lastModifiedBy>
  <dcterms:modified xsi:type="dcterms:W3CDTF">2011-06-30T12:24:06Z</dcterms:modified>
  <cp:revision>1</cp:revision>
  <dc:subject/>
  <dc:title>Slide 1</dc:title>
</cp:coreProperties>
</file>